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485-DD89-4F80-B6A5-F8B7BC9E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07F-3514-4B44-97DE-68F1D61F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9EF-45AF-47B3-BBAE-1F10C69C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001A-5B0F-4BC9-8B6B-B0168C9C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ECF-6233-4197-9BE4-C5298703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D61-D97B-442C-88A9-9FBCD0E1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93E7-EED5-4327-BBFB-5E8351C2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62AB-28C6-4815-B557-F47A7B45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D54-0970-4C02-AEAE-98D28B7E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ED4-3381-45B9-AD37-E77D7FA9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A426-2C4D-439D-BCFF-D89A771E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707-190A-463A-B3C2-EC97F076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B4D1-A54D-40E5-9C6D-EBB9EEE22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73200"/>
            <a:ext cx="761976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557360"/>
          <a:ext cx="579096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57360"/>
                    <a:ext cx="579096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90920" y="1905120"/>
          <a:ext cx="350496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350496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828800" y="2057400"/>
          <a:ext cx="5229360" cy="36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057400"/>
                    <a:ext cx="522936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~AUT0006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6784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~AUT0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~AUT00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5:26:54Z</dcterms:created>
  <dc:creator>Stroudsburg Area School Dist</dc:creator>
  <dc:description/>
  <dc:language>en-US</dc:language>
  <cp:lastModifiedBy>Kurt Pfeiffer</cp:lastModifiedBy>
  <dcterms:modified xsi:type="dcterms:W3CDTF">2003-02-21T19:57:46Z</dcterms:modified>
  <cp:revision>6</cp:revision>
  <dc:subject/>
  <dc:title>No Slide Title</dc:title>
</cp:coreProperties>
</file>